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2770C5-8A44-4649-BD86-6010DE867DC7}"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92160" y="768240"/>
            <a:ext cx="5114880" cy="3837240"/>
          </a:xfrm>
          <a:prstGeom prst="rect">
            <a:avLst/>
          </a:prstGeom>
          <a:ln w="0">
            <a:noFill/>
          </a:ln>
        </p:spPr>
      </p:sp>
      <p:sp>
        <p:nvSpPr>
          <p:cNvPr id="40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During verification we can looking for deadlock, it means that all activities in a business process come to a hal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BA3A3B-AF86-45F4-ABD4-64897EFB5270}"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DA3EA-F249-4068-B432-0EB844BD1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00343-2078-42A7-A65B-680379347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05830-6053-4D6E-92D2-88BFA4F59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E5444-3E92-4A19-A5D5-CE7F49B08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3BF48-320F-40D1-8228-F62BA559E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84F82-A7E4-4399-AC27-F617AE39D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45A70-3DA4-42D4-979A-B2214745F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A72A1-D765-45A5-99A7-7B39ACC72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4FDC7-EA4D-4345-B9CD-2FCC92F13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AE404-0B73-4738-981A-EDAD3F400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944F5-0793-46A4-AE2B-D279C659E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8588D-6C43-47E3-B213-CBF652429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FECF8-D8B9-4E1D-9C18-AB8B536C4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3B517-BF39-4752-9B58-F4C4DB58B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6D3EF-246E-4A92-A829-D82436C99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BDB5C-163F-4735-8A65-AE7B88062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70230-BC28-4923-94A7-31CBB997D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EE1995-80B8-4D7E-A45C-E57963F8E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25A41-FA9A-4311-9DBA-76439F831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4510E-E8C6-4AE2-B73B-85C631E5C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26A36-4812-4060-AEFE-EDAF19635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E8AC2-5FBB-4BF7-9C4A-D47520DF8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16F67-EC76-4A2E-8A28-B98E5445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A24EF-E5D8-490E-8BDE-1B969C5B7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54D16-BFC0-480C-A786-D6DB0CC39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01CBB-E7C0-46DC-9587-B24068B9E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F6422-4095-44EF-979D-46DEF69D9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B9322-2030-4699-A1D1-07CEAF287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BDCA8F-8CC8-4967-A063-FC638EB6E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6AC826-5075-48A4-B3F7-90A62223CC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E2DE4-3ABB-4FFE-9594-3DCF107947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3B179-EF11-4C56-A656-9E48A8EA2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EBED77-C767-47BD-A133-9E5C5A660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48EBA-E229-40DD-B51B-4DDE3D64E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09A49-917F-4F3E-AD0F-5B8153ED9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D982B-9658-495D-90A7-BD56F0E4A7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61C6B-F6CE-4976-9579-31E2722DE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E9307-8A54-4397-831E-58EE02C35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AD720-5F14-4A73-AEFC-9796636C2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A3C4E-6625-41DF-8174-2EEF1E8BB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21477-1065-49FE-B3AC-49F8D08B9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43DF1F-107F-4144-BC0B-FD9E89A5F4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5F4DB8-F1FD-4D8D-8523-E8993FA0F2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FFA052-0287-47AA-81CE-0309516B6D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E777-905E-41FC-BA64-5A91F56E8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404E6-948F-4730-A729-2423016FF8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EE2AFA-3171-4EB0-B50E-1B7C38342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A96A1-DF03-4C78-8E0D-5C7437BF6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94889-2FEC-40F4-BA0C-072C2B458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9F4A26-42A1-4848-9532-70716CFD9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92ACD-DD53-4C00-A3F0-CE29634F3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2EF2B-C895-41E5-9CF5-009AF849A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C02BF-72A2-45DE-847E-654A8793E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9FAC5-0631-48A3-B64F-ED5EC16AF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ACB701-BFB9-474F-9D51-2AF6E63947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66CD6-A209-4AB0-BC76-F36570DF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46BEA1-EFCF-4C7A-A70C-DDFF233A7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488567-74D5-483D-BDEF-7248D147B1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E90F5-E4EC-4640-A04E-8502C7AE3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152B6B-2721-42CC-894E-7857CEF45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5DBF3-0495-4A14-AC58-F77DA8C8E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0D657-6DF8-40C2-92EE-3A5C2600B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215FE-C845-4F36-94B6-455258E4A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DFBCD-0F24-4C40-9378-E5F59F7FB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CDEED-22BC-46D2-A06B-79484A50B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31B5D-FB9D-433F-AB87-AB451A52C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D9A0-3D33-407E-AE51-41CFDC27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25AFA2-D147-41AD-8CBB-B497336091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50C8ED-DCD5-4114-A566-6FAB3D6722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F2333A-3574-42C4-88A8-D387DEB333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E887DC-E2BF-49D9-907C-6E89A98D0A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13362-7501-47A8-BD7A-9E3CE4CFC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15BA3C-8E6D-431B-B405-A77F23EB8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151C5A-5352-4CBE-A358-90818DECB1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AE132-64D6-4E21-93DA-C544818ADA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2AB94-7E72-46F9-A4F3-0BD123F30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5AB88-30B3-4653-974C-6633DF8D7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1A9F-2FB9-4252-B6F3-C498DD57A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AED53A-F08B-44EB-A018-BF9619DE3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F19876-49EB-4D5D-90F7-A1DB2C2EB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0AEF6D-0AFA-4FB5-B0DD-A2DE6687E6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B969BC-694A-4DEE-B92C-CFF9BC34A7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D7FC2A-1E62-4EDA-9DF8-8DF32AB2D6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38F7F3-52EB-45B5-9FBD-2D708B952E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379AD-698D-4DA3-994F-86E70423C4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333FC2-CC66-4144-8B4B-7594147620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D50E99-F5CA-4D77-8B5B-C038B0AE6D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7D7A1E-FEA6-4618-B3BB-172F24A19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CDA3-8927-41E5-B49B-4B9FDED7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E1D5E-0E19-4BE9-9548-5AA1253B1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E45B0-1947-46DF-8E43-3EA1E9BE8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B713A-841C-4D4F-97A9-DF816FD3C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4BA470-07F3-4FA4-976A-4563E9455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3873C-6749-4B61-A2A1-55AF6AE1BE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878C3C-B7E4-478C-BA1E-4E9D28A2AF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2D1638-9B51-436B-B7C0-F2F061D7BA3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3F12-ED39-45CF-BEDB-F9F6D8A427BA}"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B252-7BB4-486E-80F7-DFBE82844502}"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4557-4B6C-4855-B285-124D7076390E}"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AFC0-D60D-4F5F-8729-7F08F918E1D3}"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B321-3D6E-408E-86C8-8C4BAC02ED80}"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35A6-99CD-4416-97F0-97258AA412A5}"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66D9-89F5-42B3-B151-C019DC6E9FE3}"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77C6-C89E-4A92-88B3-681914B90FE2}"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ookman Old Style"/>
              </a:rPr>
              <a:t>BP Analysis</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67" name="Segnaposto numero diapositiva 1"/>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EC01-978A-4313-BCC3-6EE9170738D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Dead Activity</a:t>
            </a:r>
            <a:endParaRPr b="0" lang="en-US" sz="3200" spc="-1" strike="noStrike">
              <a:solidFill>
                <a:srgbClr val="464653"/>
              </a:solidFill>
              <a:latin typeface="Bookman Old Style"/>
            </a:endParaRPr>
          </a:p>
        </p:txBody>
      </p:sp>
      <p:sp>
        <p:nvSpPr>
          <p:cNvPr id="392" name=""/>
          <p:cNvSpPr txBox="1"/>
          <p:nvPr/>
        </p:nvSpPr>
        <p:spPr>
          <a:xfrm>
            <a:off x="246240" y="1488600"/>
            <a:ext cx="8503920" cy="26067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2300" spc="-1" strike="noStrike">
              <a:solidFill>
                <a:srgbClr val="464653"/>
              </a:solidFill>
              <a:latin typeface="Gill Sans MT"/>
            </a:endParaRPr>
          </a:p>
        </p:txBody>
      </p:sp>
      <p:pic>
        <p:nvPicPr>
          <p:cNvPr id="393" name="Picture 5" descr="C:\Users\NOTEBOOK-SG\Hiwijobs\Buchpräsentation\Images\Images\Images\chapter4\DeadActivity.jpg"/>
          <p:cNvPicPr/>
          <p:nvPr/>
        </p:nvPicPr>
        <p:blipFill>
          <a:blip r:embed="rId1"/>
          <a:stretch/>
        </p:blipFill>
        <p:spPr>
          <a:xfrm>
            <a:off x="911160" y="3581280"/>
            <a:ext cx="7315200" cy="248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Missing Data</a:t>
            </a:r>
            <a:endParaRPr b="0" lang="en-US" sz="3200" spc="-1" strike="noStrike">
              <a:solidFill>
                <a:srgbClr val="464653"/>
              </a:solidFill>
              <a:latin typeface="Bookman Old Style"/>
            </a:endParaRPr>
          </a:p>
        </p:txBody>
      </p:sp>
      <p:sp>
        <p:nvSpPr>
          <p:cNvPr id="395" name=""/>
          <p:cNvSpPr txBox="1"/>
          <p:nvPr/>
        </p:nvSpPr>
        <p:spPr>
          <a:xfrm>
            <a:off x="301320" y="1526760"/>
            <a:ext cx="8504280" cy="239724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2300" spc="-1" strike="noStrike">
              <a:solidFill>
                <a:srgbClr val="464653"/>
              </a:solidFill>
              <a:latin typeface="Gill Sans MT"/>
            </a:endParaRPr>
          </a:p>
        </p:txBody>
      </p:sp>
      <p:pic>
        <p:nvPicPr>
          <p:cNvPr id="396" name="Immagine 4" descr="Schermata 2015-02-04 alle 17.23.16.png"/>
          <p:cNvPicPr/>
          <p:nvPr/>
        </p:nvPicPr>
        <p:blipFill>
          <a:blip r:embed="rId1"/>
          <a:stretch/>
        </p:blipFill>
        <p:spPr>
          <a:xfrm>
            <a:off x="395280" y="3068640"/>
            <a:ext cx="847080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Unnecessary Data</a:t>
            </a:r>
            <a:endParaRPr b="0" lang="en-US" sz="3200" spc="-1" strike="noStrike">
              <a:solidFill>
                <a:srgbClr val="464653"/>
              </a:solidFill>
              <a:latin typeface="Bookman Old Style"/>
            </a:endParaRPr>
          </a:p>
        </p:txBody>
      </p:sp>
      <p:sp>
        <p:nvSpPr>
          <p:cNvPr id="398" name=""/>
          <p:cNvSpPr txBox="1"/>
          <p:nvPr/>
        </p:nvSpPr>
        <p:spPr>
          <a:xfrm>
            <a:off x="301320" y="1527120"/>
            <a:ext cx="8504280" cy="20541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data object written by an activity of process model is called unnecessary if it is not read by any subsequent activity or transition condition or passed to the outside environment via an end message.</a:t>
            </a:r>
            <a:endParaRPr b="0" lang="en-US" sz="2300" spc="-1" strike="noStrike">
              <a:solidFill>
                <a:srgbClr val="464653"/>
              </a:solidFill>
              <a:latin typeface="Gill Sans MT"/>
            </a:endParaRPr>
          </a:p>
        </p:txBody>
      </p:sp>
      <p:pic>
        <p:nvPicPr>
          <p:cNvPr id="399" name="Picture 5" descr="C:\Users\NOTEBOOK-SG\Hiwijobs\Buchpräsentation\Images\Images\Images\chapter4\redundantData.jpg"/>
          <p:cNvPicPr/>
          <p:nvPr/>
        </p:nvPicPr>
        <p:blipFill>
          <a:blip r:embed="rId1"/>
          <a:stretch/>
        </p:blipFill>
        <p:spPr>
          <a:xfrm>
            <a:off x="2503440" y="3633840"/>
            <a:ext cx="5726160" cy="227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Lost Updates</a:t>
            </a:r>
            <a:endParaRPr b="0" lang="en-US" sz="3200" spc="-1" strike="noStrike">
              <a:solidFill>
                <a:srgbClr val="464653"/>
              </a:solidFill>
              <a:latin typeface="Bookman Old Style"/>
            </a:endParaRPr>
          </a:p>
        </p:txBody>
      </p:sp>
      <p:sp>
        <p:nvSpPr>
          <p:cNvPr id="401" name=""/>
          <p:cNvSpPr txBox="1"/>
          <p:nvPr/>
        </p:nvSpPr>
        <p:spPr>
          <a:xfrm>
            <a:off x="301320" y="1526760"/>
            <a:ext cx="8504280" cy="28162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2300" spc="-1" strike="noStrike">
              <a:solidFill>
                <a:srgbClr val="464653"/>
              </a:solidFill>
              <a:latin typeface="Gill Sans MT"/>
            </a:endParaRPr>
          </a:p>
        </p:txBody>
      </p:sp>
      <p:pic>
        <p:nvPicPr>
          <p:cNvPr id="402" name="Picture 5" descr="C:\Users\NOTEBOOK-SG\Hiwijobs\Buchpräsentation\Images\Images\Images\chapter4\lostData.jpg"/>
          <p:cNvPicPr/>
          <p:nvPr/>
        </p:nvPicPr>
        <p:blipFill>
          <a:blip r:embed="rId1"/>
          <a:stretch/>
        </p:blipFill>
        <p:spPr>
          <a:xfrm>
            <a:off x="914400" y="3666960"/>
            <a:ext cx="7315200" cy="221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1" descr="bpm-book-weske_005.png"/>
          <p:cNvPicPr/>
          <p:nvPr/>
        </p:nvPicPr>
        <p:blipFill>
          <a:blip r:embed="rId1"/>
          <a:srcRect l="0" t="0" r="0" b="6430"/>
          <a:stretch/>
        </p:blipFill>
        <p:spPr>
          <a:xfrm>
            <a:off x="1763640" y="1197000"/>
            <a:ext cx="6116760" cy="4645080"/>
          </a:xfrm>
          <a:prstGeom prst="rect">
            <a:avLst/>
          </a:prstGeom>
          <a:ln w="0">
            <a:noFill/>
          </a:ln>
        </p:spPr>
      </p:pic>
      <p:sp>
        <p:nvSpPr>
          <p:cNvPr id="36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M Life Cycle</a:t>
            </a:r>
            <a:endParaRPr b="0" lang="en-US" sz="3200" spc="-1" strike="noStrike">
              <a:solidFill>
                <a:srgbClr val="464653"/>
              </a:solidFill>
              <a:latin typeface="Bookman Old Style"/>
            </a:endParaRPr>
          </a:p>
        </p:txBody>
      </p:sp>
      <p:sp>
        <p:nvSpPr>
          <p:cNvPr id="3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05CF-D7D1-48F5-93C7-9B7FC66C736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idation</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nitial design must be validated by checking that </a:t>
            </a:r>
            <a:r>
              <a:rPr b="1" lang="en-US" sz="2600" spc="-1" strike="noStrike">
                <a:solidFill>
                  <a:srgbClr val="000000"/>
                </a:solidFill>
                <a:latin typeface="Gill Sans MT"/>
              </a:rPr>
              <a:t>all valid process instances are reflected </a:t>
            </a:r>
            <a:r>
              <a:rPr b="0" lang="en-US" sz="2600" spc="-1" strike="noStrike">
                <a:solidFill>
                  <a:srgbClr val="000000"/>
                </a:solidFill>
                <a:latin typeface="Gill Sans MT"/>
              </a:rPr>
              <a:t>by the business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ful instrument: a </a:t>
            </a:r>
            <a:r>
              <a:rPr b="1" lang="en-US" sz="2600" spc="-1" strike="noStrike">
                <a:solidFill>
                  <a:srgbClr val="000000"/>
                </a:solidFill>
                <a:latin typeface="Gill Sans MT"/>
              </a:rPr>
              <a:t>workshop </a:t>
            </a:r>
            <a:r>
              <a:rPr b="0" lang="en-US" sz="2600" spc="-1" strike="noStrike">
                <a:solidFill>
                  <a:srgbClr val="000000"/>
                </a:solidFill>
                <a:latin typeface="Gill Sans MT"/>
              </a:rPr>
              <a:t>where the persons involved can discuss the business process model</a:t>
            </a:r>
            <a:endParaRPr b="0" lang="en-US" sz="2600" spc="-1" strike="noStrike">
              <a:solidFill>
                <a:srgbClr val="000000"/>
              </a:solidFill>
              <a:latin typeface="Gill Sans MT"/>
            </a:endParaRPr>
          </a:p>
        </p:txBody>
      </p:sp>
      <p:sp>
        <p:nvSpPr>
          <p:cNvPr id="37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F872-CC39-416D-B492-922AF5ADFE0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mulation</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Gill Sans MT"/>
              </a:rPr>
              <a:t>Simulation techniques can support valid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mulate undesired execution sequences to show deficits in the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ia Simulation stakeholders can walk through the process in a step-by-step manner and to check whether the process actually exposes the desiderd behaviour</a:t>
            </a:r>
            <a:endParaRPr b="0" lang="en-US" sz="2600" spc="-1" strike="noStrike">
              <a:solidFill>
                <a:srgbClr val="000000"/>
              </a:solidFill>
              <a:latin typeface="Gill Sans MT"/>
            </a:endParaRPr>
          </a:p>
        </p:txBody>
      </p:sp>
      <p:sp>
        <p:nvSpPr>
          <p:cNvPr id="37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3D6E-1780-44BD-BC98-F4D1EB827C0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usiness process model must be analyzed and improved to make sur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actually includes all desired instanc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does not contain any undesired properti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rror-prone activities, to be repeated several times, for which automatic tools are necessa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7C96-5AB6-4983-81C9-37F1779868C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pen Issues</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describe what was intended (organizational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understandable (pragmatic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internally consistent (an aspect of internal quality) (</a:t>
            </a:r>
            <a:r>
              <a:rPr b="1" lang="en-GB" sz="2400" spc="-1" strike="noStrike">
                <a:solidFill>
                  <a:srgbClr val="000000"/>
                </a:solidFill>
                <a:latin typeface="Gill Sans MT"/>
              </a:rPr>
              <a:t>Structural</a:t>
            </a:r>
            <a:r>
              <a:rPr b="0" lang="en-GB" sz="2400" spc="-1" strike="noStrike">
                <a:solidFill>
                  <a:srgbClr val="000000"/>
                </a:solidFill>
                <a:latin typeface="Gill Sans MT"/>
              </a:rPr>
              <a:t> - e.g. absence of deadlocks and livelock - and </a:t>
            </a:r>
            <a:r>
              <a:rPr b="1" lang="en-GB" sz="2400" spc="-1" strike="noStrike">
                <a:solidFill>
                  <a:srgbClr val="000000"/>
                </a:solidFill>
                <a:latin typeface="Gill Sans MT"/>
              </a:rPr>
              <a:t>behavioural</a:t>
            </a:r>
            <a:r>
              <a:rPr b="0" lang="en-GB" sz="2400" spc="-1" strike="noStrike">
                <a:solidFill>
                  <a:srgbClr val="000000"/>
                </a:solidFill>
                <a:latin typeface="Gill Sans MT"/>
              </a:rPr>
              <a:t> – soundness - model correctnes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conform to reality (</a:t>
            </a:r>
            <a:r>
              <a:rPr b="1" lang="en-GB" sz="2400" spc="-1" strike="noStrike">
                <a:solidFill>
                  <a:srgbClr val="000000"/>
                </a:solidFill>
                <a:latin typeface="Gill Sans MT"/>
              </a:rPr>
              <a:t>Semantic</a:t>
            </a:r>
            <a:r>
              <a:rPr b="0" lang="en-GB" sz="2400" spc="-1" strike="noStrike">
                <a:solidFill>
                  <a:srgbClr val="000000"/>
                </a:solidFill>
                <a:latin typeface="Gill Sans MT"/>
              </a:rPr>
              <a:t> correctness, impose compliance rule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a:t>
            </a:r>
            <a:r>
              <a:rPr b="1" lang="en-GB" sz="2200" spc="-1" strike="noStrike">
                <a:solidFill>
                  <a:srgbClr val="000000"/>
                </a:solidFill>
                <a:latin typeface="Gill Sans MT"/>
              </a:rPr>
              <a:t>business process model must be analysed </a:t>
            </a:r>
            <a:r>
              <a:rPr b="0" lang="en-GB" sz="2200" spc="-1" strike="noStrike">
                <a:solidFill>
                  <a:srgbClr val="000000"/>
                </a:solidFill>
                <a:latin typeface="Gill Sans MT"/>
              </a:rPr>
              <a:t>and improved to make sure (i) It does not contain any undesired properties and (ii) It actually includes all desired instances </a:t>
            </a:r>
            <a:endParaRPr b="0" lang="en-US" sz="22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8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350C-6224-4DA3-BD7D-73290529458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Sound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Option to Complete: </a:t>
            </a:r>
            <a:r>
              <a:rPr b="0" lang="en-GB" sz="1400" spc="-1" strike="noStrike">
                <a:solidFill>
                  <a:srgbClr val="464653"/>
                </a:solidFill>
                <a:latin typeface="Calibri"/>
              </a:rPr>
              <a:t>a process instance, once started, can always complet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Proper Completion: </a:t>
            </a:r>
            <a:r>
              <a:rPr b="0" lang="en-GB" sz="1400" spc="-1" strike="noStrike">
                <a:solidFill>
                  <a:srgbClr val="464653"/>
                </a:solidFill>
                <a:latin typeface="Calibri"/>
              </a:rPr>
              <a:t>when a process instance completes there exists no related activity of this instance which is still running or enabled</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dead activities: </a:t>
            </a:r>
            <a:r>
              <a:rPr b="0" lang="en-GB" sz="14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Data Flow Correct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missing data: </a:t>
            </a:r>
            <a:r>
              <a:rPr b="0" lang="en-GB" sz="14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Unnecessary data</a:t>
            </a:r>
            <a:r>
              <a:rPr b="0" lang="en-GB" sz="1400" spc="-1" strike="noStrike">
                <a:solidFill>
                  <a:srgbClr val="464653"/>
                </a:solidFill>
                <a:latin typeface="Calibri"/>
              </a:rPr>
              <a:t>: A data object written by an activity of process model is called unnecessary if it is not read by any subsequent activity or transition condition or passed to the outside environment via an end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lost updates: </a:t>
            </a:r>
            <a:r>
              <a:rPr b="0" lang="en-GB" sz="14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1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Option to Complete</a:t>
            </a:r>
            <a:endParaRPr b="0" lang="en-US" sz="3200" spc="-1" strike="noStrike">
              <a:solidFill>
                <a:srgbClr val="464653"/>
              </a:solidFill>
              <a:latin typeface="Bookman Old Style"/>
            </a:endParaRPr>
          </a:p>
        </p:txBody>
      </p:sp>
      <p:sp>
        <p:nvSpPr>
          <p:cNvPr id="386" name=""/>
          <p:cNvSpPr txBox="1"/>
          <p:nvPr/>
        </p:nvSpPr>
        <p:spPr>
          <a:xfrm>
            <a:off x="301320" y="1527120"/>
            <a:ext cx="8504280" cy="2244960"/>
          </a:xfrm>
          <a:prstGeom prst="rect">
            <a:avLst/>
          </a:prstGeom>
          <a:noFill/>
          <a:ln w="0">
            <a:noFill/>
          </a:ln>
        </p:spPr>
        <p:txBody>
          <a:bodyPr anchor="t">
            <a:normAutofit/>
          </a:bodyPr>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instance, once started, can always complete.</a:t>
            </a:r>
            <a:endParaRPr b="0" lang="en-US" sz="2300" spc="-1" strike="noStrike">
              <a:solidFill>
                <a:srgbClr val="464653"/>
              </a:solidFill>
              <a:latin typeface="Gill Sans MT"/>
            </a:endParaRPr>
          </a:p>
        </p:txBody>
      </p:sp>
      <p:pic>
        <p:nvPicPr>
          <p:cNvPr id="387" name="Picture 5" descr="C:\Users\NOTEBOOK-SG\Hiwijobs\Buchpräsentation\Images\Images\Images\chapter4\Deadlock.jpg"/>
          <p:cNvPicPr/>
          <p:nvPr/>
        </p:nvPicPr>
        <p:blipFill>
          <a:blip r:embed="rId1"/>
          <a:stretch/>
        </p:blipFill>
        <p:spPr>
          <a:xfrm>
            <a:off x="561960" y="3213000"/>
            <a:ext cx="8448840" cy="19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Proper Completion</a:t>
            </a:r>
            <a:endParaRPr b="0" lang="en-US" sz="3200" spc="-1" strike="noStrike">
              <a:solidFill>
                <a:srgbClr val="464653"/>
              </a:solidFill>
              <a:latin typeface="Bookman Old Style"/>
            </a:endParaRPr>
          </a:p>
        </p:txBody>
      </p:sp>
      <p:sp>
        <p:nvSpPr>
          <p:cNvPr id="389" name=""/>
          <p:cNvSpPr txBox="1"/>
          <p:nvPr/>
        </p:nvSpPr>
        <p:spPr>
          <a:xfrm>
            <a:off x="301320" y="1526760"/>
            <a:ext cx="8504280" cy="26830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When a process instance completes there exists no related activity of this instance which is still running or enabled.</a:t>
            </a:r>
            <a:endParaRPr b="0" lang="en-US" sz="2300" spc="-1" strike="noStrike">
              <a:solidFill>
                <a:srgbClr val="464653"/>
              </a:solidFill>
              <a:latin typeface="Gill Sans MT"/>
            </a:endParaRPr>
          </a:p>
        </p:txBody>
      </p:sp>
      <p:pic>
        <p:nvPicPr>
          <p:cNvPr id="390" name="Picture 5" descr="C:\Users\NOTEBOOK-SG\Hiwijobs\Buchpräsentation\Images\Images\Images\chapter4\ExamplesProperCompletion1.jpg"/>
          <p:cNvPicPr/>
          <p:nvPr/>
        </p:nvPicPr>
        <p:blipFill>
          <a:blip r:embed="rId1"/>
          <a:stretch/>
        </p:blipFill>
        <p:spPr>
          <a:xfrm>
            <a:off x="911160" y="2913120"/>
            <a:ext cx="7315200" cy="3224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5-02-04T16:27:47Z</dcterms:modified>
  <cp:revision>248</cp:revision>
  <dc:subject>Lezioni Laboratorio Informatico per i database turistici</dc:subject>
  <dc:title>Presentazione corso</dc:title>
</cp:coreProperties>
</file>